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18320" cy="98679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726">
                <a:moveTo>
                  <a:pt x="5" y="0"/>
                </a:moveTo>
                <a:arcTo wR="5" hR="5" stAng="16200000" swAng="-5400000"/>
                <a:lnTo>
                  <a:pt x="0" y="31721"/>
                </a:lnTo>
                <a:arcTo wR="5" hR="5" stAng="10800000" swAng="-5400000"/>
                <a:lnTo>
                  <a:pt x="21595" y="3172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04840" y="-36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93520" y="739440"/>
            <a:ext cx="4924440" cy="369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move the slid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1040" y="4687560"/>
            <a:ext cx="5365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04840" y="9372240"/>
            <a:ext cx="290196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4906F-58CC-4776-8A53-2BD2A1B05F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93880" y="739800"/>
            <a:ext cx="49291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93880" y="739800"/>
            <a:ext cx="4927320" cy="36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9388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67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03CC-D676-4B6F-8515-114098FAF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0EB2-9CEB-45B1-A783-B424A940F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A659-E53C-47D9-91A9-8AF13A1A2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36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244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36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244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88C9-6DB5-44C4-A75E-F55A5C33C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683E0-DD80-4247-AA92-972803DB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2DF25-61B7-4525-A7B5-7FAC86B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941FA-E65E-4DBC-B3CE-438DB54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79F6F-388C-4928-AEE4-0D90BFC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0ED12-BA2F-4981-B952-F507EFF6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225000"/>
            <a:ext cx="618336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67890-93BF-4F71-9CD5-7ABCCF7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60432-E6DB-4377-AD18-C1183195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BEB3-898D-4A64-B909-D7C6452EF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65316-7E70-4FFB-8734-1050B43B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11027-DBE1-48FC-A273-D5EEB38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B73D-F52C-405F-9D6E-57C62E6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EA63B-4E9A-40D2-B01E-9C9647D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368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2440" y="159984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552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368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2440" y="3863880"/>
            <a:ext cx="25506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8F876-6E7A-45F5-9F12-863BCE7B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6B56-43CC-4075-AF93-4C46852CB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7618-BC7C-452C-9859-70C03BAE8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08411-30BC-4317-8BC9-1F62AF797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225000"/>
            <a:ext cx="6183360" cy="54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5AE9-263A-4B92-BAF4-62F527F7A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8CBE-2F4A-43DA-9BD2-2ED90B134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4640" y="386388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C6FD-51DA-487C-9B90-4D3DBF9E9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4640" y="1599840"/>
            <a:ext cx="386568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3863880"/>
            <a:ext cx="792180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EA4F-9391-4158-845D-A3D2D73B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438120"/>
            <a:ext cx="1184400" cy="38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833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edit the title text forma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599840"/>
            <a:ext cx="792180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3" marL="16002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4" marL="20574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5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6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71920" y="6519960"/>
            <a:ext cx="667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Rdg Vest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F299A-2EBC-4B19-8CF6-ADE87600EFFB}" type="slidenum">
              <a:rPr b="0" lang="en-GB" sz="1400" spc="-1" strike="noStrike">
                <a:solidFill>
                  <a:srgbClr val="000000"/>
                </a:solidFill>
                <a:latin typeface="Rdg Vest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6519960"/>
            <a:ext cx="633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Rdg Vesta"/>
              </a:rPr>
              <a:t>EU HIPST Project: UK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24720" y="438120"/>
            <a:ext cx="1184400" cy="385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24720" y="438120"/>
            <a:ext cx="118440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bf0071"/>
                </a:solidFill>
                <a:latin typeface="Rdg Vesta"/>
              </a:rPr>
              <a:t>Click to edit the title text forma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3" marL="16002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4" marL="2057400" indent="-228600">
              <a:lnSpc>
                <a:spcPct val="94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5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6" marL="2057400" indent="-228600">
              <a:lnSpc>
                <a:spcPct val="94000"/>
              </a:lnSpc>
              <a:spcBef>
                <a:spcPts val="601"/>
              </a:spcBef>
              <a:buClr>
                <a:srgbClr val="000000"/>
              </a:buClr>
              <a:buFont typeface="Rdg Vest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dg Vest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7A07DB-C125-4A88-92A0-1D9D58555E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2732040"/>
            <a:ext cx="79200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200" spc="-1" strike="noStrike">
                <a:solidFill>
                  <a:srgbClr val="bf0071"/>
                </a:solidFill>
                <a:latin typeface="Rdg Vesta"/>
              </a:rPr>
              <a:t>History and Philosophy in Science Teaching</a:t>
            </a:r>
            <a:endParaRPr b="0" lang="en-US" sz="62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55640" y="5373360"/>
            <a:ext cx="79200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  <a:ea typeface="Lucida Sans Unicode"/>
              </a:rPr>
              <a:t>John Oversby: UK Convenor (EU) HIPST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How many kinds of chemical equations are there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In equations, why do chemists use arrows instead of = signs? 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AF53-16CB-45F0-A98B-D5CC80D0E00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Philosophy of science in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Value of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angers of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Ways forward in engaging with Nature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7562-CF37-4A64-9645-365DEF383228}" type="slidenum">
              <a:t>11</a:t>
            </a:fld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tific knowledge is both reliable and tentative. Having confidence in scientific knowledge is reasonable while realising that such knowledge may be abandoned or modified in light of new evidence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9D6A-BD01-4242-BCA2-0F7397F6F523}" type="slidenum">
              <a:t>12</a:t>
            </a:fld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0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hared values and perspectives characterise a scientific approach to understanding nature: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a demand for naturalistic explanations with empirical evidence and testable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observations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rational argument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inference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scepticism,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peer review and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replicability of work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marL="333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3D92A-976F-4A3E-B10F-B0620BCDAF85}" type="slidenum">
              <a:t>13</a:t>
            </a:fld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II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Symbol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Creativity is a vital part of  the production of scientific knowledge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Symbol" charset="2"/>
              <a:buChar char="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is limited to naturalistic methods and explanations with no  supernatural elements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00BF-E9C1-418E-B8F4-F090EABF3E86}" type="slidenum">
              <a:t>14</a:t>
            </a:fld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0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Nature of Science IV (NSTA)</a:t>
            </a: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‏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3116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A primary goal of science is the formation of theories and laws, with very specific meanings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Laws are regularities or universal relationships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Theories are inferred explanations Theories do not ever become laws; they explain laws.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Well-established laws and theories must fit best available evidence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249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dg Vesta"/>
              </a:rPr>
              <a:t>Be successfully and widely tested </a:t>
            </a:r>
            <a:endParaRPr b="0" lang="en-US" sz="2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36F6-E205-4D01-8ACC-6EE2E3A64A7E}" type="slidenum">
              <a:t>15</a:t>
            </a:fld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0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Why did early chemists look for a magic ingredient (oxygen or acid-maker) in acids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D27D-03AD-4972-8E49-2D1E268D0BB0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Value of Nature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inks to How Science Work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inks to processes of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2CAD-0633-4399-83E9-A14489B0FCC5}" type="slidenum">
              <a:t>17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dur="indefinite" fill="hold">
                      <p:stCondLst>
                        <p:cond delay="0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Dangers of Nature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views of NoS are frequently naïve and incomplete (Lederman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views of science education often conflict with expressed views of scientist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0905-2AA3-4526-9285-D297FB329CB3}" type="slidenum">
              <a:t>18</a:t>
            </a:fld>
          </a:p>
        </p:txBody>
      </p:sp>
    </p:spTree>
  </p:cSld>
  <p:transition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dur="indefinite" fill="hold">
                      <p:stCondLst>
                        <p:cond delay="0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f0071"/>
                </a:solidFill>
                <a:latin typeface="Rdg Vesta"/>
              </a:rPr>
              <a:t>Ways forward in engaging with </a:t>
            </a:r>
            <a:br>
              <a:rPr sz="2800"/>
            </a:br>
            <a:r>
              <a:rPr b="0" lang="en-GB" sz="2800" spc="-1" strike="noStrike">
                <a:solidFill>
                  <a:srgbClr val="bf0071"/>
                </a:solidFill>
                <a:latin typeface="Rdg Vesta"/>
              </a:rPr>
              <a:t>Nature of Science</a:t>
            </a:r>
            <a:endParaRPr b="0" lang="en-US" sz="28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Better training of teachers and BTs in No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Exemplary material for teachers to use with class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7478-32D6-46B3-B87F-33882C9441B1}" type="slidenum">
              <a:t>19</a:t>
            </a:fld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dur="indefinite" fill="hold">
                      <p:stCondLst>
                        <p:cond delay="0"/>
                      </p:stCondLst>
                      <p:childTnLst>
                        <p:par>
                          <p:cTn id="2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Invit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</a:rPr>
              <a:t>Association for Science Education (UK) Annual Conference: January 6-9, Nottingham.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  <a:p>
            <a:pPr indent="0" algn="ctr">
              <a:lnSpc>
                <a:spcPct val="94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Rdg Vesta"/>
              </a:rPr>
              <a:t>www.ase.org.uk </a:t>
            </a:r>
            <a:endParaRPr b="0" lang="en-US" sz="36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Learners’ voices about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Rdg Vesta"/>
              </a:rPr>
              <a:t>ROSE international project</a:t>
            </a:r>
            <a:endParaRPr b="0" lang="en-US" sz="28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dislike S&amp;T at school: S&amp;T is boring and difficul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are interested in ‘real science’ - but less in ‘school science’ (a living ‘fossil’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 curriculum is overloaded with ‘correct’ answers - no room for creativity, fantasy, etc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are very hesitant to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study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S&amp;T and to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work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with S&amp;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lvl="1" marL="733320" indent="-276120">
              <a:lnSpc>
                <a:spcPct val="110000"/>
              </a:lnSpc>
              <a:spcBef>
                <a:spcPts val="300"/>
              </a:spcBef>
              <a:buClr>
                <a:srgbClr val="bf0071"/>
              </a:buClr>
              <a:buFont typeface="Rdg Vest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hey often have a negative perception of scientists as </a:t>
            </a:r>
            <a:r>
              <a:rPr b="0" i="1" lang="en-GB" sz="2400" spc="-1" strike="noStrike">
                <a:solidFill>
                  <a:srgbClr val="000000"/>
                </a:solidFill>
                <a:latin typeface="Rdg Vesta"/>
              </a:rPr>
              <a:t>persons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 (no good role models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8C83-6066-48E5-859E-010C92263058}" type="slidenum">
              <a:t>20</a:t>
            </a:fld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dur="indefinite" fill="hold">
                      <p:stCondLst>
                        <p:cond delay="0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f0071"/>
                </a:solidFill>
                <a:latin typeface="Rdg Vesta"/>
              </a:rPr>
              <a:t>Do learners prefer school science?</a:t>
            </a:r>
            <a:endParaRPr b="0" lang="en-US" sz="3200" spc="-1" strike="noStrike">
              <a:solidFill>
                <a:srgbClr val="bf0071"/>
              </a:solidFill>
              <a:latin typeface="Rdg Vest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00720" cy="463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2E57-F1CF-4C5E-84C0-A3BAF43B0831}" type="slidenum">
              <a:t>21</a:t>
            </a:fld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dur="indefinite" fill="hold">
                      <p:stCondLst>
                        <p:cond delay="0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HIPST Project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11 colleagues in 8 countri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UK, Poland, Germany, Portugal, Italy, Greece, Israel, Hungar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rom Feb 2008 – July  2010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rovide curriculum and research material for trials in 8 languag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Materials to be add-on or embedded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Research: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B5F2-80AB-4C76-84A7-5377835F2FD4}" type="slidenum">
              <a:t>22</a:t>
            </a:fld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dur="indefinite" fill="hold">
                      <p:stCondLst>
                        <p:cond delay="0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225000"/>
            <a:ext cx="61927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Web site structur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s’ section - scholarship writing, including subject content, history and philosoph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heme of work, to provide the overview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upil pag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Action Research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95D2-0767-4AA4-BD94-D62C27B16108}" type="slidenum">
              <a:t>23</a:t>
            </a:fld>
          </a:p>
        </p:txBody>
      </p:sp>
    </p:spTree>
  </p:cSld>
  <p:transition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0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eachers sec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rinciple is scholarship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ubject content - developing personal subject knowledge beyond the curriculum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story - starts from science of the topic, then to related other sciences and then to social and political history. Rather Eurocentric at present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hilosophy - derives fundamental ideas from the context.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0DD3-7F3B-470F-8811-0324492588C3}" type="slidenum">
              <a:t>24</a:t>
            </a:fld>
          </a:p>
        </p:txBody>
      </p:sp>
    </p:spTree>
  </p:cSld>
  <p:transition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dur="indefinite" fill="hold">
                      <p:stCondLst>
                        <p:cond delay="0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Pupil pages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esson by lesson, divided into content, history and philosophy. 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ocuses on processes of history, including personal and social. Science as a community of scholar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ocuses on a few philosophical idea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Includes scientific biographies, to be translated by pupils/ teachers into intermediate languag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Input of excursions by teachers and pupils leading to personalised learning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CA91-7828-453D-AD33-90809261F629}" type="slidenum">
              <a:t>25</a:t>
            </a:fld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dur="indefinite" fill="hold">
                      <p:stCondLst>
                        <p:cond delay="0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dur="indefinite" fill="hold">
                      <p:stCondLst>
                        <p:cond delay="indefinite"/>
                      </p:stCondLst>
                      <p:childTnLst>
                        <p:par>
                          <p:cTn id="3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Future activity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acher training - a collaborative process to be documented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rials with pupils, pre- and post-questionnaires; individual and focus group interviews; video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Research papers, theoretical and empirica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Completion of web sit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issemination activitie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CFBD-BA80-486C-B22A-27BBDC1324D7}" type="slidenum">
              <a:t>26</a:t>
            </a:fld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dur="indefinite" fill="hold">
                      <p:stCondLst>
                        <p:cond delay="0"/>
                      </p:stCondLst>
                      <p:childTnLst>
                        <p:par>
                          <p:cTn id="3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dur="indefinite" fill="hold">
                      <p:stCondLst>
                        <p:cond delay="indefinite"/>
                      </p:stCondLst>
                      <p:childTnLst>
                        <p:par>
                          <p:cTn id="3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25360"/>
            <a:ext cx="618660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Some thoughts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2468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11268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the message we send to the future.” (Abraham Lincoln; 1809—1865.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t is not the strongest of the species that survive, nor the most intelligent, but the one most responsive to change." (Charles Darwin; 1809—1882.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n the book of life, the answers aren't in the back." From a Charlie Brown comic strip. (Charles Schulz)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f women are to do the same work as men, we must teach them the same things." (Plato, 428-347 B.C.) </a:t>
            </a:r>
            <a:endParaRPr b="0" lang="en-US" sz="3000" spc="-1" strike="noStrike">
              <a:solidFill>
                <a:srgbClr val="000000"/>
              </a:solidFill>
              <a:latin typeface="Rdg Vest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Overview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story of science in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Philosophy of science in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earners’ voices about  science education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HIPST Project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F073-15D1-4617-8E2D-0BEC3E3ED71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270000"/>
            <a:ext cx="61866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Thinking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246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96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Rdg Vesta"/>
              </a:rPr>
              <a:t>Did temperature exist before we tried to measure it?</a:t>
            </a:r>
            <a:endParaRPr b="0" lang="en-US" sz="40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F8BE-75EF-42A2-AE2F-B8E6A55231E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History of science in science education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a history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Value of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Dangers of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Ways forward in history of science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3E82-813A-4925-BF48-1789B73D0C6C}" type="slidenum">
              <a:t>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Science has a history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in the past (hundreds of years?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within a cultural context (www.non-western-science.wikispaces.com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cience has been practised by research groups and individuals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FFB0-6131-46A0-85D0-BACBE0D050CC}" type="slidenum">
              <a:t>7</a:t>
            </a:fld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Value of history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can provide a human perspective e.g. Marat and Lavoisier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can provide evidence of personal conflict, both scientific and social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Stories of science engage young learners (literacy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D985-A6CE-48D8-92C3-95F02E52C0FF}" type="slidenum">
              <a:t>8</a:t>
            </a:fld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22120"/>
            <a:ext cx="619272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bf0071"/>
                </a:solidFill>
                <a:latin typeface="Rdg Vesta"/>
              </a:rPr>
              <a:t>Dangers of history of science</a:t>
            </a:r>
            <a:endParaRPr b="0" lang="en-US" sz="3600" spc="-1" strike="noStrike">
              <a:solidFill>
                <a:srgbClr val="bf0071"/>
              </a:solidFill>
              <a:latin typeface="Rdg Vest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Kuhn on textbooks as a source of information: ‘stories of heroes and villains’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Textbooks do not necessarily indicate how a topic was taught (intended v experienced curriculum)</a:t>
            </a: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  <a:p>
            <a:pPr marL="333360" indent="-333360">
              <a:lnSpc>
                <a:spcPct val="110000"/>
              </a:lnSpc>
              <a:spcBef>
                <a:spcPts val="601"/>
              </a:spcBef>
              <a:buClr>
                <a:srgbClr val="bf0071"/>
              </a:buClr>
              <a:buFont typeface="Rdg Vest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Rdg Vesta"/>
              </a:rPr>
              <a:t>Lack of time to include in curriculum</a:t>
            </a:r>
            <a:endParaRPr b="0" lang="en-US" sz="2400" spc="-1" strike="noStrike">
              <a:solidFill>
                <a:srgbClr val="000000"/>
              </a:solidFill>
              <a:latin typeface="Rdg Vest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D081-F4BE-47B3-8B09-81E7DE1616D7}" type="slidenum">
              <a:t>9</a:t>
            </a:fld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versby</dc:creator>
  <dc:description/>
  <dc:language>en-US</dc:language>
  <cp:lastModifiedBy>John Oversby</cp:lastModifiedBy>
  <cp:revision>0</cp:revision>
  <dc:subject/>
  <dc:title>History and Philosophy for Science Teaching</dc:title>
</cp:coreProperties>
</file>